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55BD554B-8B75-4D1F-A83E-10612F6BD3D4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9A10671C-F911-4D4C-A9D5-AE5085030C3E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47600" y="1752480"/>
            <a:ext cx="655344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536b"/>
                </a:solidFill>
                <a:latin typeface="Arial Narrow"/>
              </a:rPr>
              <a:t>Exercise: PSP1 Grading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BE Mentoring Strateg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strategy is for PROBE methods A and 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th size and time estimates are based on the proxy size estimate (E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ategy for class should be in this order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xy size estima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estima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estima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cause of the process changes during the class, time estimating may not begin to work during the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xy Size Estimating Proble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, check if the conceptual design is OK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right level of detail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re than 1 part with multiple it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 too detailed, don’t include trivial metho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ght parts identifi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ssed p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needed p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, check for proper typing and sizing of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ally, check if the relative size table fits the coding sty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Estimate Proble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proxy size estimate (E) is close to the actual proxy size, but the A &amp; M size estimate is way off, the problem is most likely the historical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ptions here are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ok for outliers in the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method C or 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more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estimates should improve with more historical data and as earlier data are removed from the regress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Estimate Proble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720" y="1709640"/>
            <a:ext cx="75628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If the proxy size estimate (E) is close to the actual proxy size, but time estimate is way off, the problem is most likely either: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re is not a correlation between actual size and time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historical data is not representative of the current process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First, check the actual size versus time correlation. If there isn’t a correlation, look for the root cause and fix this first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If the actual size versus time correlation is ok, the historical data is the likely problem. The options are similar to size: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look for outliers in the historical data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use method C or D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 lvl="1" marL="61128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get more historical data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ime estimating may not begin to work during the class because of the process changes introduced during the class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1 the students lear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xy-based estimating and statistical techniques of the PROBE meth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flexible estimating and planning framework driven by a size estimate and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hat accurate plans put them in control of their commi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students find PROBE hard to learn, but effective and easy to use, once mas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will help you to understand the coaching and grading strategy for PSP1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1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PSP1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n orderly and repeatable procedure for estimating software size and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e and practice methods for making and tracking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PSP1 and PSP1.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39680" y="170964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assignment evaluation criteria include those in PSP0, plus checking that historical data are used in planning the 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cus on getting students to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parate the creative, intellectual parts of estimating from the mathematical, procedural parts (make the routine, routine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mprove their ability to identify and judge the size of object and functio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keep up on their assignm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cognize improvements in their estimat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ave a positive experienc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e the Assign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grading checklist, grade the student’s assign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925440" y="5173560"/>
            <a:ext cx="15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9536b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60 Minu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209760" y="4913280"/>
            <a:ext cx="56700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Did You Find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666880" y="1650960"/>
          <a:ext cx="3864240" cy="43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50960"/>
                    <a:ext cx="3864240" cy="4361040"/>
                  </a:xfrm>
                  <a:prstGeom prst="rect">
                    <a:avLst/>
                  </a:prstGeom>
                  <a:ln w="12600">
                    <a:solidFill>
                      <a:srgbClr val="39536b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4032360" y="2116080"/>
            <a:ext cx="1136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ading PSP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iscus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efects did you make in PSP1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guidance did your instructor give to you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ere some of your PIP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s your state of mind?  How did you feel about PSP1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o you know now that you didn’t know the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instructor, what problems do you expect to see and how will you recognize them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guidance will you gi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95360" indent="-3668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878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1 and PSP1.1 Common Erro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720" y="1476000"/>
            <a:ext cx="77752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ize Estimating Template/PROB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oo few parts identified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nfuse base and re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ctual BA + PA (S.E.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) is greater than Actual Added (plan summary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ctual BA + PA (S.E.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) is much, much smaller than actual Added(plan summary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icks an inappropriate PROBE method (e.g. when their historical data cluster around a small range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isunderstand how to use a relative size tabl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est Repor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ren’t used properly (e.g. don’t include estimated and actual results.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tudents don’t describe </a:t>
            </a:r>
            <a:r>
              <a:rPr b="0" i="1" lang="en-US" sz="1800" spc="-1" strike="noStrike">
                <a:solidFill>
                  <a:srgbClr val="39536b"/>
                </a:solidFill>
                <a:latin typeface="Arial"/>
              </a:rPr>
              <a:t>how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to run the test e.g. filenames, parameters, etc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lan Summar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eflect inconsistencies in the data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S.E.T = Size Estimating Templat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25T14:04:56Z</cp:lastPrinted>
  <dcterms:modified xsi:type="dcterms:W3CDTF">2018-09-06T01:07:58Z</dcterms:modified>
  <cp:revision>205</cp:revision>
  <dc:subject/>
  <dc:title>No Slide Title</dc:title>
</cp:coreProperties>
</file>